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E027-8DA2-499D-BB70-7D5CA792D3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und mitres are often used in Shop display fittings,  to form sloping window beds and display unit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times the display item has more than four sides. This makes it a little more difficult, but setting out the angles uses the same theory.</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your trainer for the sizes of the hopper. It will have a height and off set. The offset is the distance the hopper is tilted out or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rners on the hopper are all the same. When setting out for the angles and bevels you will only need to draw one corner. You need to get the the vertical height and off set 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et is the tilt in or out of the s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xtend the base line from the pivot point using a “T” square. Make sure it is long enough.</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easure up from the base line the thickness of material and with a”T” square mark in the thickness of the materi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umber the corners. Then use a compass from the pivot point extended to point 1 to mark a curve down to the bas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ing the compass point at the pivot point extend the compass to point 2 and mark a curved line down to the thickness of the bas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ase line join the new points 1 &amp; 2</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Using a compass again from the pivot point, extend it out to point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otate it up to the thickness 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be very careful, sometimes it can be difficult to locate the new point 3 accuratel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Join the pivot point to the new point three. This line should be parallel to the line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 will have trouble setting out the correct mitre angl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newly established points 1, 2 &amp; 3 drop vertical lines dow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l corners have been numb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stablish a pivot point which is an edge upon which the angled side can piv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Join up the points 1 to 2, then 2 to 3, then 3 to the pivot point and finally from the pivot point back to the start at point 1.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Overlay the true thickness of the material across the plan view of the mitre at 90</a:t>
            </a:r>
            <a:r>
              <a:rPr b="0" lang="en-US" sz="1200" spc="-1" strike="noStrike" baseline="30000">
                <a:solidFill>
                  <a:srgbClr val="000000"/>
                </a:solidFill>
                <a:latin typeface="Arial"/>
              </a:rPr>
              <a:t>0 </a:t>
            </a:r>
            <a:r>
              <a:rPr b="0" lang="en-US" sz="1200" spc="-1" strike="noStrike">
                <a:solidFill>
                  <a:srgbClr val="000000"/>
                </a:solidFill>
                <a:latin typeface="Arial"/>
              </a:rPr>
              <a:t>to the plan view of the mitre. You should have a slight rectangle NOT a square if you have been accura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a:t>
            </a:r>
            <a:r>
              <a:rPr b="0" lang="en-US" sz="1200" spc="-1" strike="noStrike">
                <a:solidFill>
                  <a:srgbClr val="000000"/>
                </a:solidFill>
                <a:latin typeface="Arial"/>
              </a:rPr>
              <a:t>Mark a diagonal to find the true mitre ang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the lines to make it easier to set up a sliding bevel and get an accurate  mitre ang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3C253-2937-4766-8FCB-275F6FCB6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C4A3-13BA-4858-83C6-FFCC8313D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A9AD6-1265-4D44-B6EB-232B60A4B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9E0B9-FE06-4958-8C79-8D38C12AF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A4C43-F9FA-4E21-8475-761A64C62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8B774-D680-4BC3-BE6F-D5C5F25C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AB03-EBE8-487A-B476-F4DA0C139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65506-6794-45C7-9BB2-A9750103B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F0DB7-AD17-4232-A814-D061F2DC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E5C63-2B07-454E-9315-77E2CFACA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C86B0-2264-43CF-B4FE-FCE73410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0C95F-2ADF-4D17-90EC-3C0803C8D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B5F6-3029-4160-BFEB-B81E31D421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
          <p:cNvSpPr/>
          <p:nvPr/>
        </p:nvSpPr>
        <p:spPr>
          <a:xfrm>
            <a:off x="2627280" y="2463840"/>
            <a:ext cx="3867120" cy="74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710160" y="2481120"/>
            <a:ext cx="1643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face angle</a:t>
            </a:r>
            <a:endParaRPr b="0" lang="en-US" sz="1200" spc="-1" strike="noStrike">
              <a:solidFill>
                <a:srgbClr val="000000"/>
              </a:solidFill>
              <a:latin typeface="Times New Roman"/>
            </a:endParaRPr>
          </a:p>
        </p:txBody>
      </p:sp>
      <p:sp>
        <p:nvSpPr>
          <p:cNvPr id="50" name=""/>
          <p:cNvSpPr/>
          <p:nvPr/>
        </p:nvSpPr>
        <p:spPr>
          <a:xfrm>
            <a:off x="4538520" y="2031840"/>
            <a:ext cx="195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Mitre angle</a:t>
            </a:r>
            <a:endParaRPr b="0" lang="en-US" sz="1200" spc="-1" strike="noStrike">
              <a:solidFill>
                <a:srgbClr val="000000"/>
              </a:solidFill>
              <a:latin typeface="Times New Roman"/>
            </a:endParaRPr>
          </a:p>
        </p:txBody>
      </p:sp>
      <p:sp>
        <p:nvSpPr>
          <p:cNvPr id="51" name=""/>
          <p:cNvSpPr/>
          <p:nvPr/>
        </p:nvSpPr>
        <p:spPr>
          <a:xfrm>
            <a:off x="2436840" y="2948040"/>
            <a:ext cx="1077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E</a:t>
            </a:r>
            <a:endParaRPr b="0" lang="en-US" sz="1000" spc="-1" strike="noStrike">
              <a:solidFill>
                <a:srgbClr val="000000"/>
              </a:solidFill>
              <a:latin typeface="Times New Roman"/>
            </a:endParaRPr>
          </a:p>
        </p:txBody>
      </p:sp>
      <p:sp>
        <p:nvSpPr>
          <p:cNvPr id="52" name=""/>
          <p:cNvSpPr txBox="1"/>
          <p:nvPr/>
        </p:nvSpPr>
        <p:spPr>
          <a:xfrm>
            <a:off x="1319040" y="174600"/>
            <a:ext cx="7013880" cy="199404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ccff"/>
                  </a:solidFill>
                  <a:miter/>
                </a:ln>
                <a:solidFill>
                  <a:srgbClr val="0000ff"/>
                </a:solidFill>
                <a:latin typeface="Arial Black"/>
              </a:rPr>
              <a:t>Hopper bevels</a:t>
            </a:r>
            <a:endParaRPr b="0" lang="en-US" sz="5400" spc="1" strike="noStrike">
              <a:ln w="9360">
                <a:solidFill>
                  <a:srgbClr val="00ccff"/>
                </a:solidFill>
                <a:miter/>
              </a:ln>
              <a:solidFill>
                <a:srgbClr val="0000ff"/>
              </a:solidFill>
              <a:latin typeface="Arial Black"/>
              <a:ea typeface="Arial Black"/>
            </a:endParaRPr>
          </a:p>
        </p:txBody>
      </p:sp>
      <p:sp>
        <p:nvSpPr>
          <p:cNvPr id="53" name=""/>
          <p:cNvSpPr/>
          <p:nvPr/>
        </p:nvSpPr>
        <p:spPr>
          <a:xfrm>
            <a:off x="3398760" y="3800520"/>
            <a:ext cx="282420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per bevels are made up of Compound Mitres. These are angled on both the face and the edge of boards as in the hopper exercise used in  this Presentation</a:t>
            </a:r>
            <a:endParaRPr b="0" lang="en-US" sz="1600" spc="-1" strike="noStrike">
              <a:solidFill>
                <a:srgbClr val="000000"/>
              </a:solidFill>
              <a:latin typeface="Times New Roman"/>
            </a:endParaRPr>
          </a:p>
        </p:txBody>
      </p:sp>
      <p:sp>
        <p:nvSpPr>
          <p:cNvPr id="54" name=""/>
          <p:cNvSpPr/>
          <p:nvPr/>
        </p:nvSpPr>
        <p:spPr>
          <a:xfrm>
            <a:off x="6499080" y="2340000"/>
            <a:ext cx="222480" cy="853920"/>
          </a:xfrm>
          <a:custGeom>
            <a:avLst/>
            <a:gdLst/>
            <a:ahLst/>
            <a:rect l="l" t="t" r="r" b="b"/>
            <a:pathLst>
              <a:path w="141" h="538">
                <a:moveTo>
                  <a:pt x="1" y="80"/>
                </a:moveTo>
                <a:lnTo>
                  <a:pt x="138" y="0"/>
                </a:lnTo>
                <a:lnTo>
                  <a:pt x="141" y="456"/>
                </a:lnTo>
                <a:lnTo>
                  <a:pt x="0" y="538"/>
                </a:lnTo>
                <a:lnTo>
                  <a:pt x="1" y="80"/>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3868560" y="2328840"/>
            <a:ext cx="2840040" cy="133200"/>
          </a:xfrm>
          <a:custGeom>
            <a:avLst/>
            <a:gdLst/>
            <a:ahLst/>
            <a:rect l="l" t="t" r="r" b="b"/>
            <a:pathLst>
              <a:path w="1789" h="84">
                <a:moveTo>
                  <a:pt x="0" y="82"/>
                </a:moveTo>
                <a:lnTo>
                  <a:pt x="561" y="2"/>
                </a:lnTo>
                <a:lnTo>
                  <a:pt x="1789" y="0"/>
                </a:lnTo>
                <a:lnTo>
                  <a:pt x="1655" y="84"/>
                </a:lnTo>
                <a:lnTo>
                  <a:pt x="0" y="82"/>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flipH="1">
            <a:off x="4502880" y="2259000"/>
            <a:ext cx="104076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646360" y="2330280"/>
            <a:ext cx="2049480" cy="133560"/>
          </a:xfrm>
          <a:custGeom>
            <a:avLst/>
            <a:gdLst/>
            <a:ahLst/>
            <a:rect l="l" t="t" r="r" b="b"/>
            <a:pathLst>
              <a:path w="1291" h="84">
                <a:moveTo>
                  <a:pt x="129" y="0"/>
                </a:moveTo>
                <a:lnTo>
                  <a:pt x="1291" y="1"/>
                </a:lnTo>
                <a:lnTo>
                  <a:pt x="735" y="84"/>
                </a:lnTo>
                <a:lnTo>
                  <a:pt x="0" y="82"/>
                </a:lnTo>
                <a:lnTo>
                  <a:pt x="129" y="0"/>
                </a:lnTo>
                <a:close/>
              </a:path>
            </a:pathLst>
          </a:custGeom>
          <a:gradFill rotWithShape="0">
            <a:gsLst>
              <a:gs pos="0">
                <a:srgbClr val="e5e5e5"/>
              </a:gs>
              <a:gs pos="100000">
                <a:srgbClr val="b2b2b2"/>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2544840" y="2266920"/>
            <a:ext cx="1077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GE</a:t>
            </a:r>
            <a:endParaRPr b="0" lang="en-US" sz="1000" spc="-1" strike="noStrike">
              <a:solidFill>
                <a:srgbClr val="000000"/>
              </a:solidFill>
              <a:latin typeface="Times New Roman"/>
            </a:endParaRPr>
          </a:p>
        </p:txBody>
      </p:sp>
      <p:sp>
        <p:nvSpPr>
          <p:cNvPr id="59" name=""/>
          <p:cNvSpPr/>
          <p:nvPr/>
        </p:nvSpPr>
        <p:spPr>
          <a:xfrm flipV="1">
            <a:off x="3868920" y="2328840"/>
            <a:ext cx="88704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868560" y="2463840"/>
            <a:ext cx="430560" cy="74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2627280" y="2327040"/>
            <a:ext cx="2365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63800" y="2327400"/>
            <a:ext cx="386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494400" y="2327040"/>
            <a:ext cx="236520" cy="13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6724800" y="2327400"/>
            <a:ext cx="0" cy="74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485040" y="3070080"/>
            <a:ext cx="23652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6721560" y="4049640"/>
            <a:ext cx="1990800" cy="1341360"/>
            <a:chOff x="6721560" y="4049640"/>
            <a:chExt cx="1990800" cy="1341360"/>
          </a:xfrm>
        </p:grpSpPr>
        <p:sp>
          <p:nvSpPr>
            <p:cNvPr id="67" name=""/>
            <p:cNvSpPr/>
            <p:nvPr/>
          </p:nvSpPr>
          <p:spPr>
            <a:xfrm>
              <a:off x="7715160" y="4430880"/>
              <a:ext cx="989280" cy="957240"/>
            </a:xfrm>
            <a:custGeom>
              <a:avLst/>
              <a:gdLst/>
              <a:ahLst/>
              <a:rect l="l" t="t" r="r" b="b"/>
              <a:pathLst>
                <a:path w="623" h="603">
                  <a:moveTo>
                    <a:pt x="623" y="0"/>
                  </a:moveTo>
                  <a:lnTo>
                    <a:pt x="1" y="232"/>
                  </a:lnTo>
                  <a:lnTo>
                    <a:pt x="0" y="603"/>
                  </a:lnTo>
                  <a:lnTo>
                    <a:pt x="389" y="434"/>
                  </a:lnTo>
                  <a:lnTo>
                    <a:pt x="623"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6726240" y="4425840"/>
              <a:ext cx="985680" cy="957240"/>
            </a:xfrm>
            <a:custGeom>
              <a:avLst/>
              <a:gdLst/>
              <a:ahLst/>
              <a:rect l="l" t="t" r="r" b="b"/>
              <a:pathLst>
                <a:path w="621" h="603">
                  <a:moveTo>
                    <a:pt x="0" y="0"/>
                  </a:moveTo>
                  <a:lnTo>
                    <a:pt x="621" y="235"/>
                  </a:lnTo>
                  <a:lnTo>
                    <a:pt x="621" y="603"/>
                  </a:lnTo>
                  <a:lnTo>
                    <a:pt x="237" y="437"/>
                  </a:lnTo>
                  <a:lnTo>
                    <a:pt x="0"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6721560" y="4049640"/>
              <a:ext cx="1990800" cy="747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73840" y="4103640"/>
              <a:ext cx="1685880" cy="639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8332920" y="4421160"/>
              <a:ext cx="37944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8559720" y="442116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721560" y="4421160"/>
              <a:ext cx="38088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102440" y="5122800"/>
              <a:ext cx="6145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7716960" y="5122440"/>
              <a:ext cx="61596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7716960" y="404964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721560" y="44211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377640" y="4280040"/>
            <a:ext cx="2657520" cy="823680"/>
            <a:chOff x="377640" y="4280040"/>
            <a:chExt cx="2657520" cy="823680"/>
          </a:xfrm>
        </p:grpSpPr>
        <p:sp>
          <p:nvSpPr>
            <p:cNvPr id="79" name=""/>
            <p:cNvSpPr/>
            <p:nvPr/>
          </p:nvSpPr>
          <p:spPr>
            <a:xfrm>
              <a:off x="548640" y="4280040"/>
              <a:ext cx="2333880" cy="306720"/>
            </a:xfrm>
            <a:custGeom>
              <a:avLst/>
              <a:gdLst/>
              <a:ahLst/>
              <a:rect l="l" t="t" r="r" b="b"/>
              <a:pathLst>
                <a:path w="4576" h="414">
                  <a:moveTo>
                    <a:pt x="0" y="414"/>
                  </a:moveTo>
                  <a:lnTo>
                    <a:pt x="3030" y="414"/>
                  </a:lnTo>
                  <a:lnTo>
                    <a:pt x="4576" y="0"/>
                  </a:lnTo>
                  <a:lnTo>
                    <a:pt x="1510" y="0"/>
                  </a:lnTo>
                  <a:lnTo>
                    <a:pt x="0" y="414"/>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8000" y="4586760"/>
              <a:ext cx="1867680" cy="221400"/>
            </a:xfrm>
            <a:custGeom>
              <a:avLst/>
              <a:gdLst/>
              <a:ahLst/>
              <a:rect l="l" t="t" r="r" b="b"/>
              <a:pathLst>
                <a:path w="3662" h="299">
                  <a:moveTo>
                    <a:pt x="299" y="0"/>
                  </a:moveTo>
                  <a:lnTo>
                    <a:pt x="3365" y="0"/>
                  </a:lnTo>
                  <a:lnTo>
                    <a:pt x="3662" y="299"/>
                  </a:lnTo>
                  <a:lnTo>
                    <a:pt x="0" y="299"/>
                  </a:lnTo>
                  <a:lnTo>
                    <a:pt x="299" y="0"/>
                  </a:lnTo>
                  <a:close/>
                </a:path>
              </a:pathLst>
            </a:custGeom>
            <a:gradFill rotWithShape="0">
              <a:gsLst>
                <a:gs pos="0">
                  <a:srgbClr val="c6c6c6"/>
                </a:gs>
                <a:gs pos="100000">
                  <a:srgbClr val="aaaaa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78000" y="4808160"/>
              <a:ext cx="1868760" cy="295560"/>
            </a:xfrm>
            <a:custGeom>
              <a:avLst/>
              <a:gdLst/>
              <a:ahLst/>
              <a:rect l="l" t="t" r="r" b="b"/>
              <a:pathLst>
                <a:path w="3664" h="399">
                  <a:moveTo>
                    <a:pt x="0" y="0"/>
                  </a:moveTo>
                  <a:lnTo>
                    <a:pt x="3664" y="0"/>
                  </a:lnTo>
                  <a:lnTo>
                    <a:pt x="3664" y="399"/>
                  </a:lnTo>
                  <a:lnTo>
                    <a:pt x="0" y="399"/>
                  </a:lnTo>
                  <a:lnTo>
                    <a:pt x="0" y="0"/>
                  </a:lnTo>
                  <a:close/>
                </a:path>
              </a:pathLst>
            </a:custGeom>
            <a:gradFill rotWithShape="0">
              <a:gsLst>
                <a:gs pos="0">
                  <a:srgbClr val="c6c6c6"/>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45680" y="4501440"/>
              <a:ext cx="788400" cy="602280"/>
            </a:xfrm>
            <a:custGeom>
              <a:avLst/>
              <a:gdLst/>
              <a:ahLst/>
              <a:rect l="l" t="t" r="r" b="b"/>
              <a:pathLst>
                <a:path w="1546" h="813">
                  <a:moveTo>
                    <a:pt x="0" y="414"/>
                  </a:moveTo>
                  <a:lnTo>
                    <a:pt x="0" y="813"/>
                  </a:lnTo>
                  <a:lnTo>
                    <a:pt x="1546" y="399"/>
                  </a:lnTo>
                  <a:lnTo>
                    <a:pt x="1546" y="0"/>
                  </a:lnTo>
                  <a:lnTo>
                    <a:pt x="0" y="414"/>
                  </a:lnTo>
                  <a:close/>
                </a:path>
              </a:pathLst>
            </a:custGeom>
            <a:gradFill rotWithShape="0">
              <a:gsLst>
                <a:gs pos="0">
                  <a:srgbClr val="878787"/>
                </a:gs>
                <a:gs pos="100000">
                  <a:srgbClr val="c6c6c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094120" y="4280040"/>
              <a:ext cx="941040" cy="528120"/>
            </a:xfrm>
            <a:custGeom>
              <a:avLst/>
              <a:gdLst/>
              <a:ahLst/>
              <a:rect l="l" t="t" r="r" b="b"/>
              <a:pathLst>
                <a:path w="1845" h="713">
                  <a:moveTo>
                    <a:pt x="0" y="414"/>
                  </a:moveTo>
                  <a:lnTo>
                    <a:pt x="299" y="713"/>
                  </a:lnTo>
                  <a:lnTo>
                    <a:pt x="1845" y="302"/>
                  </a:lnTo>
                  <a:lnTo>
                    <a:pt x="1546" y="0"/>
                  </a:lnTo>
                  <a:lnTo>
                    <a:pt x="0" y="414"/>
                  </a:lnTo>
                  <a:close/>
                </a:path>
              </a:pathLst>
            </a:custGeom>
            <a:gradFill rotWithShape="0">
              <a:gsLst>
                <a:gs pos="0">
                  <a:srgbClr val="828282"/>
                </a:gs>
                <a:gs pos="100000">
                  <a:srgbClr val="c6c6c6"/>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30280" y="458676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094120" y="458676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77640" y="4808160"/>
              <a:ext cx="18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378000" y="458640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8000" y="480816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78000" y="5103720"/>
              <a:ext cx="186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2245680" y="4807800"/>
              <a:ext cx="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530280" y="428004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2094120" y="428004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2246760" y="4501080"/>
              <a:ext cx="78840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2245680" y="4797000"/>
              <a:ext cx="788400" cy="30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319040" y="4280040"/>
              <a:ext cx="156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882880" y="4280040"/>
              <a:ext cx="15228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V="1">
              <a:off x="3034440" y="450360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8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5" name=""/>
          <p:cNvSpPr txBox="1"/>
          <p:nvPr/>
        </p:nvSpPr>
        <p:spPr>
          <a:xfrm>
            <a:off x="1222200" y="717480"/>
            <a:ext cx="6681960" cy="325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Follow the steps</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in the next </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rPr>
              <a:t>set of slides</a:t>
            </a:r>
            <a:endParaRPr b="0" lang="en-US" sz="2400" spc="1" strike="noStrike">
              <a:ln w="12600">
                <a:solidFill>
                  <a:srgbClr val="3333cc"/>
                </a:solidFill>
                <a:miter/>
              </a:ln>
              <a:solidFill>
                <a:srgbClr val="0099ff">
                  <a:alpha val="50000"/>
                </a:srgbClr>
              </a:solidFill>
              <a:effectLst>
                <a:outerShdw dist="40186" dir="1096358" blurRad="0" rotWithShape="0">
                  <a:srgbClr val="9999ff"/>
                </a:outerShdw>
              </a:effectLst>
              <a:latin typeface="Arial Black"/>
              <a:ea typeface="Arial Black"/>
            </a:endParaRPr>
          </a:p>
        </p:txBody>
      </p:sp>
      <p:sp>
        <p:nvSpPr>
          <p:cNvPr id="286" name=""/>
          <p:cNvSpPr txBox="1"/>
          <p:nvPr/>
        </p:nvSpPr>
        <p:spPr>
          <a:xfrm>
            <a:off x="2897280" y="4451400"/>
            <a:ext cx="3794040" cy="197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int out the </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lide notes </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ges first</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3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87" name=""/>
          <p:cNvGrpSpPr/>
          <p:nvPr/>
        </p:nvGrpSpPr>
        <p:grpSpPr>
          <a:xfrm>
            <a:off x="1752480" y="380880"/>
            <a:ext cx="3600720" cy="6005520"/>
            <a:chOff x="1752480" y="380880"/>
            <a:chExt cx="3600720" cy="6005520"/>
          </a:xfrm>
        </p:grpSpPr>
        <p:sp>
          <p:nvSpPr>
            <p:cNvPr id="28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txBox="1"/>
          <p:nvPr/>
        </p:nvSpPr>
        <p:spPr>
          <a:xfrm>
            <a:off x="5791320" y="1960560"/>
            <a:ext cx="3141720" cy="289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rst Draw a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levation an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lan view of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hopper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03" name=""/>
          <p:cNvSpPr/>
          <p:nvPr/>
        </p:nvSpPr>
        <p:spPr>
          <a:xfrm>
            <a:off x="1752480" y="487440"/>
            <a:ext cx="360" cy="1966680"/>
          </a:xfrm>
          <a:prstGeom prst="line">
            <a:avLst/>
          </a:prstGeom>
          <a:noFill/>
          <a:ln w="648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5400000">
            <a:off x="2108520" y="1906200"/>
            <a:ext cx="360" cy="896760"/>
          </a:xfrm>
          <a:prstGeom prst="line">
            <a:avLst/>
          </a:prstGeom>
          <a:noFill/>
          <a:ln w="648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H="1">
            <a:off x="1659960" y="2273400"/>
            <a:ext cx="168120" cy="168120"/>
          </a:xfrm>
          <a:prstGeom prst="line">
            <a:avLst/>
          </a:prstGeom>
          <a:noFill/>
          <a:ln w="3240">
            <a:solidFill>
              <a:srgbClr val="ff33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712880" y="2097000"/>
            <a:ext cx="116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OFF SET</a:t>
            </a:r>
            <a:endParaRPr b="0" lang="en-US" sz="1200" spc="-1" strike="noStrike">
              <a:solidFill>
                <a:srgbClr val="000000"/>
              </a:solidFill>
              <a:latin typeface="Times New Roman"/>
            </a:endParaRPr>
          </a:p>
        </p:txBody>
      </p:sp>
      <p:sp>
        <p:nvSpPr>
          <p:cNvPr id="307" name=""/>
          <p:cNvSpPr/>
          <p:nvPr/>
        </p:nvSpPr>
        <p:spPr>
          <a:xfrm rot="16200000">
            <a:off x="1051920" y="1232640"/>
            <a:ext cx="117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HEIGHT</a:t>
            </a:r>
            <a:endParaRPr b="0" lang="en-US" sz="1200" spc="-1" strike="noStrike">
              <a:solidFill>
                <a:srgbClr val="000000"/>
              </a:solidFill>
              <a:latin typeface="Times New Roman"/>
            </a:endParaRPr>
          </a:p>
        </p:txBody>
      </p:sp>
    </p:spTree>
  </p:cSld>
  <p:transition spd="med" advTm="12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08" name=""/>
          <p:cNvGrpSpPr/>
          <p:nvPr/>
        </p:nvGrpSpPr>
        <p:grpSpPr>
          <a:xfrm>
            <a:off x="1752480" y="380880"/>
            <a:ext cx="3600720" cy="6005520"/>
            <a:chOff x="1752480" y="380880"/>
            <a:chExt cx="3600720" cy="6005520"/>
          </a:xfrm>
        </p:grpSpPr>
        <p:sp>
          <p:nvSpPr>
            <p:cNvPr id="30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3"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495680" y="236232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21440" y="2143080"/>
            <a:ext cx="1594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 the base line</a:t>
            </a:r>
            <a:endParaRPr b="0" lang="en-US" sz="1200" spc="-1" strike="noStrike">
              <a:solidFill>
                <a:srgbClr val="000000"/>
              </a:solidFill>
              <a:latin typeface="Times New Roman"/>
            </a:endParaRPr>
          </a:p>
        </p:txBody>
      </p:sp>
      <p:sp>
        <p:nvSpPr>
          <p:cNvPr id="326" name=""/>
          <p:cNvSpPr txBox="1"/>
          <p:nvPr/>
        </p:nvSpPr>
        <p:spPr>
          <a:xfrm>
            <a:off x="5587920" y="3648240"/>
            <a:ext cx="2562480" cy="99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Extend th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ase lin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27"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28" name=""/>
          <p:cNvGrpSpPr/>
          <p:nvPr/>
        </p:nvGrpSpPr>
        <p:grpSpPr>
          <a:xfrm>
            <a:off x="1752480" y="380880"/>
            <a:ext cx="3600720" cy="6005520"/>
            <a:chOff x="1752480" y="380880"/>
            <a:chExt cx="3600720" cy="6005520"/>
          </a:xfrm>
        </p:grpSpPr>
        <p:sp>
          <p:nvSpPr>
            <p:cNvPr id="32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7362720" y="1973160"/>
            <a:ext cx="1092240" cy="484200"/>
            <a:chOff x="7362720" y="1973160"/>
            <a:chExt cx="1092240" cy="484200"/>
          </a:xfrm>
        </p:grpSpPr>
        <p:sp>
          <p:nvSpPr>
            <p:cNvPr id="347"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62720" y="2014560"/>
              <a:ext cx="998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thickness of side material </a:t>
              </a:r>
              <a:endParaRPr b="0" lang="en-US" sz="1000" spc="-1" strike="noStrike">
                <a:solidFill>
                  <a:srgbClr val="000000"/>
                </a:solidFill>
                <a:latin typeface="Times New Roman"/>
              </a:endParaRPr>
            </a:p>
          </p:txBody>
        </p:sp>
      </p:grpSp>
      <p:sp>
        <p:nvSpPr>
          <p:cNvPr id="353" name=""/>
          <p:cNvSpPr txBox="1"/>
          <p:nvPr/>
        </p:nvSpPr>
        <p:spPr>
          <a:xfrm>
            <a:off x="5856120" y="3468600"/>
            <a:ext cx="2281320" cy="23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Set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icknes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terial</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54"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55" name=""/>
          <p:cNvGrpSpPr/>
          <p:nvPr/>
        </p:nvGrpSpPr>
        <p:grpSpPr>
          <a:xfrm>
            <a:off x="1752480" y="380880"/>
            <a:ext cx="3600720" cy="6005520"/>
            <a:chOff x="1752480" y="380880"/>
            <a:chExt cx="3600720" cy="6005520"/>
          </a:xfrm>
        </p:grpSpPr>
        <p:sp>
          <p:nvSpPr>
            <p:cNvPr id="356"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381"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382"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383"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384" name=""/>
          <p:cNvSpPr txBox="1"/>
          <p:nvPr/>
        </p:nvSpPr>
        <p:spPr>
          <a:xfrm>
            <a:off x="5595840" y="3468600"/>
            <a:ext cx="3194280" cy="260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Number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rners an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rop down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s with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 compas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385"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
        <p:nvSpPr>
          <p:cNvPr id="386"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Tree>
  </p:cSld>
  <p:transition spd="med" advTm="12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387" name=""/>
          <p:cNvGrpSpPr/>
          <p:nvPr/>
        </p:nvGrpSpPr>
        <p:grpSpPr>
          <a:xfrm>
            <a:off x="1752480" y="380880"/>
            <a:ext cx="3600720" cy="6005520"/>
            <a:chOff x="1752480" y="380880"/>
            <a:chExt cx="3600720" cy="6005520"/>
          </a:xfrm>
        </p:grpSpPr>
        <p:sp>
          <p:nvSpPr>
            <p:cNvPr id="38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54644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04"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
        <p:nvSpPr>
          <p:cNvPr id="413"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15"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16"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17"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18"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527880" y="1830240"/>
            <a:ext cx="120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20" name=""/>
          <p:cNvSpPr txBox="1"/>
          <p:nvPr/>
        </p:nvSpPr>
        <p:spPr>
          <a:xfrm>
            <a:off x="5832360" y="3479760"/>
            <a:ext cx="2725920" cy="995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4. Join points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amp; 2</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21" name=""/>
          <p:cNvGrpSpPr/>
          <p:nvPr/>
        </p:nvGrpSpPr>
        <p:grpSpPr>
          <a:xfrm>
            <a:off x="1752480" y="380880"/>
            <a:ext cx="3600720" cy="6005520"/>
            <a:chOff x="1752480" y="380880"/>
            <a:chExt cx="3600720" cy="6005520"/>
          </a:xfrm>
        </p:grpSpPr>
        <p:sp>
          <p:nvSpPr>
            <p:cNvPr id="422"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9568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38"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48"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49"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50"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51"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540480" y="1805040"/>
            <a:ext cx="1187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53"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1908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4"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455" name=""/>
          <p:cNvSpPr/>
          <p:nvPr/>
        </p:nvSpPr>
        <p:spPr>
          <a:xfrm>
            <a:off x="3789360" y="1585800"/>
            <a:ext cx="546120" cy="47484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803680" y="946080"/>
            <a:ext cx="1360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Bring up point 3 to the thickness line</a:t>
            </a:r>
            <a:endParaRPr b="0" lang="en-US" sz="1200" spc="-1" strike="noStrike">
              <a:solidFill>
                <a:srgbClr val="000000"/>
              </a:solidFill>
              <a:latin typeface="Times New Roman"/>
            </a:endParaRPr>
          </a:p>
        </p:txBody>
      </p:sp>
      <p:sp>
        <p:nvSpPr>
          <p:cNvPr id="457" name=""/>
          <p:cNvSpPr txBox="1"/>
          <p:nvPr/>
        </p:nvSpPr>
        <p:spPr>
          <a:xfrm>
            <a:off x="5781600" y="3087720"/>
            <a:ext cx="3159360" cy="231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5. Extend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 3 to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hickness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58"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Tree>
  </p:cSld>
  <p:transition spd="med" advTm="12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59" name=""/>
          <p:cNvGrpSpPr/>
          <p:nvPr/>
        </p:nvGrpSpPr>
        <p:grpSpPr>
          <a:xfrm>
            <a:off x="1752480" y="380880"/>
            <a:ext cx="3600720" cy="6005520"/>
            <a:chOff x="1752480" y="380880"/>
            <a:chExt cx="3600720" cy="6005520"/>
          </a:xfrm>
        </p:grpSpPr>
        <p:sp>
          <p:nvSpPr>
            <p:cNvPr id="460"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49568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47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728120" y="2060640"/>
            <a:ext cx="72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7715160" y="2363760"/>
            <a:ext cx="72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370720" y="197316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8283240" y="198612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8283240" y="2284560"/>
            <a:ext cx="15876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86"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487"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88"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48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477120" y="1830240"/>
            <a:ext cx="12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1 to 2</a:t>
            </a:r>
            <a:endParaRPr b="0" lang="en-US" sz="1200" spc="-1" strike="noStrike">
              <a:solidFill>
                <a:srgbClr val="000000"/>
              </a:solidFill>
              <a:latin typeface="Times New Roman"/>
            </a:endParaRPr>
          </a:p>
        </p:txBody>
      </p:sp>
      <p:sp>
        <p:nvSpPr>
          <p:cNvPr id="491"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19080">
            <a:solidFill>
              <a:srgbClr val="000000"/>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2"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493"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062160" y="1333440"/>
            <a:ext cx="121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Join pivot point to new point 3</a:t>
            </a:r>
            <a:endParaRPr b="0" lang="en-US" sz="1200" spc="-1" strike="noStrike">
              <a:solidFill>
                <a:srgbClr val="000000"/>
              </a:solidFill>
              <a:latin typeface="Times New Roman"/>
            </a:endParaRPr>
          </a:p>
        </p:txBody>
      </p:sp>
      <p:sp>
        <p:nvSpPr>
          <p:cNvPr id="495" name=""/>
          <p:cNvSpPr txBox="1"/>
          <p:nvPr/>
        </p:nvSpPr>
        <p:spPr>
          <a:xfrm>
            <a:off x="5667480" y="3459240"/>
            <a:ext cx="2884320" cy="174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6. Join Pivot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 to the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ew point 3</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96" name=""/>
          <p:cNvSpPr/>
          <p:nvPr/>
        </p:nvSpPr>
        <p:spPr>
          <a:xfrm>
            <a:off x="7153200" y="2023920"/>
            <a:ext cx="1214640" cy="3985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thickness of side material </a:t>
            </a:r>
            <a:endParaRPr b="0" lang="en-US" sz="1000" spc="-1" strike="noStrike">
              <a:solidFill>
                <a:srgbClr val="000000"/>
              </a:solidFill>
              <a:latin typeface="Times New Roman"/>
            </a:endParaRPr>
          </a:p>
        </p:txBody>
      </p:sp>
    </p:spTree>
  </p:cSld>
  <p:transition spd="med" advTm="12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497" name=""/>
          <p:cNvGrpSpPr/>
          <p:nvPr/>
        </p:nvGrpSpPr>
        <p:grpSpPr>
          <a:xfrm>
            <a:off x="1752480" y="380880"/>
            <a:ext cx="3600720" cy="6005520"/>
            <a:chOff x="1752480" y="380880"/>
            <a:chExt cx="3600720" cy="6005520"/>
          </a:xfrm>
        </p:grpSpPr>
        <p:sp>
          <p:nvSpPr>
            <p:cNvPr id="498"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59400" y="2484360"/>
            <a:ext cx="128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ivot point</a:t>
            </a:r>
            <a:endParaRPr b="0" lang="en-US" sz="1200" spc="-1" strike="noStrike">
              <a:solidFill>
                <a:srgbClr val="000000"/>
              </a:solidFill>
              <a:latin typeface="Times New Roman"/>
            </a:endParaRPr>
          </a:p>
        </p:txBody>
      </p:sp>
      <p:sp>
        <p:nvSpPr>
          <p:cNvPr id="515"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20"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21"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22"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23"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5"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26"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28"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44492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308560" y="4489560"/>
            <a:ext cx="1147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rop down lines</a:t>
            </a:r>
            <a:endParaRPr b="0" lang="en-US" sz="1400" spc="-1" strike="noStrike">
              <a:solidFill>
                <a:srgbClr val="000000"/>
              </a:solidFill>
              <a:latin typeface="Times New Roman"/>
            </a:endParaRPr>
          </a:p>
        </p:txBody>
      </p:sp>
      <p:sp>
        <p:nvSpPr>
          <p:cNvPr id="533" name=""/>
          <p:cNvSpPr/>
          <p:nvPr/>
        </p:nvSpPr>
        <p:spPr>
          <a:xfrm flipV="1">
            <a:off x="6111720" y="3971880"/>
            <a:ext cx="38448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flipV="1">
            <a:off x="4371840" y="4282920"/>
            <a:ext cx="1184400" cy="51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txBox="1"/>
          <p:nvPr/>
        </p:nvSpPr>
        <p:spPr>
          <a:xfrm>
            <a:off x="6877080" y="3348000"/>
            <a:ext cx="2190600" cy="17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7. Drop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own the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ine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36"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56"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57"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58"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5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1"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62"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64"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44492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381640" y="2787480"/>
            <a:ext cx="165420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5176800" y="255888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70" name=""/>
          <p:cNvSpPr/>
          <p:nvPr/>
        </p:nvSpPr>
        <p:spPr>
          <a:xfrm>
            <a:off x="5432400" y="2697120"/>
            <a:ext cx="123516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57840" y="2867040"/>
            <a:ext cx="258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72" name=""/>
          <p:cNvSpPr/>
          <p:nvPr/>
        </p:nvSpPr>
        <p:spPr>
          <a:xfrm>
            <a:off x="5164200" y="3078000"/>
            <a:ext cx="14176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078520" y="2990880"/>
            <a:ext cx="123480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618240" y="2743200"/>
            <a:ext cx="24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575" name=""/>
          <p:cNvSpPr/>
          <p:nvPr/>
        </p:nvSpPr>
        <p:spPr>
          <a:xfrm>
            <a:off x="4157640" y="3978360"/>
            <a:ext cx="20628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930480" y="3772080"/>
            <a:ext cx="3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577" name=""/>
          <p:cNvSpPr/>
          <p:nvPr/>
        </p:nvSpPr>
        <p:spPr>
          <a:xfrm>
            <a:off x="4164120" y="3906720"/>
            <a:ext cx="137880" cy="0"/>
          </a:xfrm>
          <a:prstGeom prst="line">
            <a:avLst/>
          </a:prstGeom>
          <a:ln w="9360">
            <a:solidFill>
              <a:srgbClr val="ff9999"/>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343400" y="2343240"/>
            <a:ext cx="169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579" name=""/>
          <p:cNvSpPr/>
          <p:nvPr/>
        </p:nvSpPr>
        <p:spPr>
          <a:xfrm>
            <a:off x="6311880" y="3111480"/>
            <a:ext cx="355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580" name=""/>
          <p:cNvSpPr txBox="1"/>
          <p:nvPr/>
        </p:nvSpPr>
        <p:spPr>
          <a:xfrm>
            <a:off x="6916680" y="2668680"/>
            <a:ext cx="2060640" cy="183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8. Extend </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rners</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to 1</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1" name=""/>
          <p:cNvSpPr txBox="1"/>
          <p:nvPr/>
        </p:nvSpPr>
        <p:spPr>
          <a:xfrm>
            <a:off x="7427880" y="4849920"/>
            <a:ext cx="1119240" cy="3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to  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82" name=""/>
          <p:cNvSpPr txBox="1"/>
          <p:nvPr/>
        </p:nvSpPr>
        <p:spPr>
          <a:xfrm>
            <a:off x="7392960" y="5500800"/>
            <a:ext cx="1216080" cy="29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to  3</a:t>
            </a:r>
            <a:endParaRPr b="0" lang="en-US" sz="16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98" name=""/>
          <p:cNvGrpSpPr/>
          <p:nvPr/>
        </p:nvGrpSpPr>
        <p:grpSpPr>
          <a:xfrm>
            <a:off x="1752480" y="380880"/>
            <a:ext cx="3600720" cy="6005520"/>
            <a:chOff x="1752480" y="380880"/>
            <a:chExt cx="3600720" cy="6005520"/>
          </a:xfrm>
        </p:grpSpPr>
        <p:sp>
          <p:nvSpPr>
            <p:cNvPr id="99"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14"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70480" y="3087720"/>
            <a:ext cx="2249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 hopper shape</a:t>
            </a:r>
            <a:endParaRPr b="0" lang="en-US" sz="1000" spc="-1" strike="noStrike">
              <a:solidFill>
                <a:srgbClr val="000000"/>
              </a:solidFill>
              <a:latin typeface="Times New Roman"/>
            </a:endParaRPr>
          </a:p>
        </p:txBody>
      </p:sp>
      <p:sp>
        <p:nvSpPr>
          <p:cNvPr id="116" name=""/>
          <p:cNvSpPr txBox="1"/>
          <p:nvPr/>
        </p:nvSpPr>
        <p:spPr>
          <a:xfrm>
            <a:off x="5707080" y="3894120"/>
            <a:ext cx="31669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  Identify th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ivot poin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nvGrpSpPr>
          <p:cNvPr id="117" name=""/>
          <p:cNvGrpSpPr/>
          <p:nvPr/>
        </p:nvGrpSpPr>
        <p:grpSpPr>
          <a:xfrm>
            <a:off x="6400800" y="1612800"/>
            <a:ext cx="1990800" cy="1341360"/>
            <a:chOff x="6400800" y="1612800"/>
            <a:chExt cx="1990800" cy="1341360"/>
          </a:xfrm>
        </p:grpSpPr>
        <p:sp>
          <p:nvSpPr>
            <p:cNvPr id="118" name=""/>
            <p:cNvSpPr/>
            <p:nvPr/>
          </p:nvSpPr>
          <p:spPr>
            <a:xfrm>
              <a:off x="7394400" y="1994040"/>
              <a:ext cx="989280" cy="957240"/>
            </a:xfrm>
            <a:custGeom>
              <a:avLst/>
              <a:gdLst/>
              <a:ahLst/>
              <a:rect l="l" t="t" r="r" b="b"/>
              <a:pathLst>
                <a:path w="623" h="603">
                  <a:moveTo>
                    <a:pt x="623" y="0"/>
                  </a:moveTo>
                  <a:lnTo>
                    <a:pt x="1" y="232"/>
                  </a:lnTo>
                  <a:lnTo>
                    <a:pt x="0" y="603"/>
                  </a:lnTo>
                  <a:lnTo>
                    <a:pt x="389" y="434"/>
                  </a:lnTo>
                  <a:lnTo>
                    <a:pt x="623"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6405480" y="1989000"/>
              <a:ext cx="986040" cy="957240"/>
            </a:xfrm>
            <a:custGeom>
              <a:avLst/>
              <a:gdLst/>
              <a:ahLst/>
              <a:rect l="l" t="t" r="r" b="b"/>
              <a:pathLst>
                <a:path w="621" h="603">
                  <a:moveTo>
                    <a:pt x="0" y="0"/>
                  </a:moveTo>
                  <a:lnTo>
                    <a:pt x="621" y="235"/>
                  </a:lnTo>
                  <a:lnTo>
                    <a:pt x="621" y="603"/>
                  </a:lnTo>
                  <a:lnTo>
                    <a:pt x="237" y="437"/>
                  </a:lnTo>
                  <a:lnTo>
                    <a:pt x="0" y="0"/>
                  </a:lnTo>
                  <a:close/>
                </a:path>
              </a:pathLst>
            </a:custGeom>
            <a:gradFill rotWithShape="0">
              <a:gsLst>
                <a:gs pos="0">
                  <a:srgbClr val="e5e5e5"/>
                </a:gs>
                <a:gs pos="100000">
                  <a:srgbClr val="b2b2b2">
                    <a:alpha val="5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6400800" y="1612800"/>
              <a:ext cx="1990800" cy="747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53080" y="1666800"/>
              <a:ext cx="1685880" cy="639720"/>
            </a:xfrm>
            <a:prstGeom prst="diamond">
              <a:avLst/>
            </a:prstGeom>
            <a:gradFill rotWithShape="0">
              <a:gsLst>
                <a:gs pos="0">
                  <a:srgbClr val="ffffff"/>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012160" y="1984320"/>
              <a:ext cx="37944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8238960" y="1984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00800" y="1984320"/>
              <a:ext cx="38088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81680" y="2685960"/>
              <a:ext cx="6145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7396200" y="2685600"/>
              <a:ext cx="61596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7396200" y="1612800"/>
              <a:ext cx="0" cy="13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400800" y="1984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advTm="8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83"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159080" y="3978360"/>
            <a:ext cx="180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944800" y="3978360"/>
            <a:ext cx="144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V="1">
            <a:off x="2944800" y="3978360"/>
            <a:ext cx="1214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
          <p:cNvSpPr/>
          <p:nvPr/>
        </p:nvSpPr>
        <p:spPr>
          <a:xfrm flipV="1">
            <a:off x="2944800" y="5192280"/>
            <a:ext cx="1214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3"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495680" y="2362320"/>
            <a:ext cx="316872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 name=""/>
          <p:cNvSpPr/>
          <p:nvPr/>
        </p:nvSpPr>
        <p:spPr>
          <a:xfrm>
            <a:off x="3984480" y="2060640"/>
            <a:ext cx="367992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03"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04"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05"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06"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8"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09"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11"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4457880" y="235728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311720" y="206388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381640" y="2787480"/>
            <a:ext cx="165420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6" name=""/>
          <p:cNvSpPr/>
          <p:nvPr/>
        </p:nvSpPr>
        <p:spPr>
          <a:xfrm>
            <a:off x="5176800" y="258444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17" name=""/>
          <p:cNvSpPr/>
          <p:nvPr/>
        </p:nvSpPr>
        <p:spPr>
          <a:xfrm>
            <a:off x="4857840" y="2867040"/>
            <a:ext cx="258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18" name=""/>
          <p:cNvSpPr/>
          <p:nvPr/>
        </p:nvSpPr>
        <p:spPr>
          <a:xfrm>
            <a:off x="5164200" y="3078000"/>
            <a:ext cx="1417680" cy="1800"/>
          </a:xfrm>
          <a:prstGeom prst="line">
            <a:avLst/>
          </a:prstGeom>
          <a:ln w="9360">
            <a:solidFill>
              <a:srgbClr val="cccc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a:off x="6618240" y="2743200"/>
            <a:ext cx="389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20" name=""/>
          <p:cNvSpPr/>
          <p:nvPr/>
        </p:nvSpPr>
        <p:spPr>
          <a:xfrm>
            <a:off x="4157640" y="3978360"/>
            <a:ext cx="206280" cy="1440"/>
          </a:xfrm>
          <a:prstGeom prst="line">
            <a:avLst/>
          </a:prstGeom>
          <a:ln w="9360">
            <a:solidFill>
              <a:srgbClr val="cccc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a:off x="3930480" y="3772080"/>
            <a:ext cx="35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22" name=""/>
          <p:cNvSpPr/>
          <p:nvPr/>
        </p:nvSpPr>
        <p:spPr>
          <a:xfrm>
            <a:off x="4343400" y="2343240"/>
            <a:ext cx="1446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623" name=""/>
          <p:cNvSpPr/>
          <p:nvPr/>
        </p:nvSpPr>
        <p:spPr>
          <a:xfrm>
            <a:off x="6251400" y="3159000"/>
            <a:ext cx="435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24"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532560" y="307980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txBox="1"/>
          <p:nvPr/>
        </p:nvSpPr>
        <p:spPr>
          <a:xfrm>
            <a:off x="6846840" y="2351160"/>
            <a:ext cx="2255760" cy="134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9. Join th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 1 to 2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2" name=""/>
          <p:cNvSpPr txBox="1"/>
          <p:nvPr/>
        </p:nvSpPr>
        <p:spPr>
          <a:xfrm>
            <a:off x="7155000" y="3898800"/>
            <a:ext cx="1646280" cy="37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 2  to  3</a:t>
            </a:r>
            <a:endParaRPr b="0" lang="en-US" sz="10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3" name=""/>
          <p:cNvSpPr txBox="1"/>
          <p:nvPr/>
        </p:nvSpPr>
        <p:spPr>
          <a:xfrm>
            <a:off x="7142040" y="4500720"/>
            <a:ext cx="195120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 3 to pivot </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nt</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4" name=""/>
          <p:cNvSpPr txBox="1"/>
          <p:nvPr/>
        </p:nvSpPr>
        <p:spPr>
          <a:xfrm>
            <a:off x="7126200" y="5670720"/>
            <a:ext cx="195264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 Pivot point </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1</a:t>
            </a:r>
            <a:endParaRPr b="0" lang="en-US" sz="1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5"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54"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2</a:t>
            </a:r>
            <a:endParaRPr b="0" lang="en-US" sz="1200" spc="-1" strike="noStrike">
              <a:solidFill>
                <a:srgbClr val="000000"/>
              </a:solidFill>
              <a:latin typeface="Times New Roman"/>
            </a:endParaRPr>
          </a:p>
        </p:txBody>
      </p:sp>
      <p:sp>
        <p:nvSpPr>
          <p:cNvPr id="655"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56" name=""/>
          <p:cNvSpPr/>
          <p:nvPr/>
        </p:nvSpPr>
        <p:spPr>
          <a:xfrm>
            <a:off x="6496200" y="2341440"/>
            <a:ext cx="511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a:t>
            </a:r>
            <a:endParaRPr b="0" lang="en-US" sz="1200" spc="-1" strike="noStrike">
              <a:solidFill>
                <a:srgbClr val="000000"/>
              </a:solidFill>
              <a:latin typeface="Times New Roman"/>
            </a:endParaRPr>
          </a:p>
        </p:txBody>
      </p:sp>
      <p:sp>
        <p:nvSpPr>
          <p:cNvPr id="657"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9" name=""/>
          <p:cNvSpPr/>
          <p:nvPr/>
        </p:nvSpPr>
        <p:spPr>
          <a:xfrm>
            <a:off x="3971880" y="2340000"/>
            <a:ext cx="303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60"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3</a:t>
            </a:r>
            <a:endParaRPr b="0" lang="en-US" sz="1200" spc="-1" strike="noStrike">
              <a:solidFill>
                <a:srgbClr val="000000"/>
              </a:solidFill>
              <a:latin typeface="Times New Roman"/>
            </a:endParaRPr>
          </a:p>
        </p:txBody>
      </p:sp>
      <p:sp>
        <p:nvSpPr>
          <p:cNvPr id="662"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330800" y="2343240"/>
            <a:ext cx="1446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P hasn’t moved</a:t>
            </a:r>
            <a:endParaRPr b="0" lang="en-US" sz="1200" spc="-1" strike="noStrike">
              <a:solidFill>
                <a:srgbClr val="000000"/>
              </a:solidFill>
              <a:latin typeface="Times New Roman"/>
            </a:endParaRPr>
          </a:p>
        </p:txBody>
      </p:sp>
      <p:sp>
        <p:nvSpPr>
          <p:cNvPr id="664"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32560" y="307980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H="1">
            <a:off x="6127920" y="2593800"/>
            <a:ext cx="645840" cy="26208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773760" y="2604960"/>
            <a:ext cx="0" cy="873360"/>
          </a:xfrm>
          <a:prstGeom prst="line">
            <a:avLst/>
          </a:prstGeom>
          <a:ln w="9360">
            <a:solidFill>
              <a:srgbClr val="ff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txBox="1"/>
          <p:nvPr/>
        </p:nvSpPr>
        <p:spPr>
          <a:xfrm>
            <a:off x="7147080" y="3833640"/>
            <a:ext cx="1589040" cy="155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AC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NGL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4" name=""/>
          <p:cNvSpPr/>
          <p:nvPr/>
        </p:nvSpPr>
        <p:spPr>
          <a:xfrm rot="16200000">
            <a:off x="6950160" y="2583000"/>
            <a:ext cx="1108080" cy="993600"/>
          </a:xfrm>
          <a:custGeom>
            <a:avLst/>
            <a:gdLst>
              <a:gd name="textAreaLeft" fmla="*/ 369360 w 1108080"/>
              <a:gd name="textAreaRight" fmla="*/ 949320 w 1108080"/>
              <a:gd name="textAreaTop" fmla="*/ 572400 h 993600"/>
              <a:gd name="textAreaBottom" fmla="*/ 851040 h 9936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2000">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75"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5"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96"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97"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9"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01"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444920" y="2357280"/>
            <a:ext cx="0" cy="40244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11720" y="2063880"/>
            <a:ext cx="0" cy="402408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381640" y="2787480"/>
            <a:ext cx="16542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164200" y="3078000"/>
            <a:ext cx="14176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157640" y="3978360"/>
            <a:ext cx="2062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6532560" y="3079800"/>
            <a:ext cx="0" cy="3573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5" name=""/>
          <p:cNvGrpSpPr/>
          <p:nvPr/>
        </p:nvGrpSpPr>
        <p:grpSpPr>
          <a:xfrm>
            <a:off x="5403960" y="3163320"/>
            <a:ext cx="517320" cy="817560"/>
            <a:chOff x="5403960" y="3163320"/>
            <a:chExt cx="517320" cy="817560"/>
          </a:xfrm>
        </p:grpSpPr>
        <p:sp>
          <p:nvSpPr>
            <p:cNvPr id="716" name=""/>
            <p:cNvSpPr/>
            <p:nvPr/>
          </p:nvSpPr>
          <p:spPr>
            <a:xfrm flipH="1" flipV="1">
              <a:off x="5403960" y="3260520"/>
              <a:ext cx="288720" cy="7110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592600" y="3163320"/>
              <a:ext cx="328680" cy="817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rot="4049400">
            <a:off x="5483520" y="5220720"/>
            <a:ext cx="19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ue thickness of material</a:t>
            </a:r>
            <a:endParaRPr b="0" lang="en-US" sz="1000" spc="-1" strike="noStrike">
              <a:solidFill>
                <a:srgbClr val="000000"/>
              </a:solidFill>
              <a:latin typeface="Times New Roman"/>
            </a:endParaRPr>
          </a:p>
        </p:txBody>
      </p:sp>
      <p:grpSp>
        <p:nvGrpSpPr>
          <p:cNvPr id="719" name=""/>
          <p:cNvGrpSpPr/>
          <p:nvPr/>
        </p:nvGrpSpPr>
        <p:grpSpPr>
          <a:xfrm>
            <a:off x="5714640" y="4003560"/>
            <a:ext cx="408960" cy="511200"/>
            <a:chOff x="5714640" y="4003560"/>
            <a:chExt cx="408960" cy="511200"/>
          </a:xfrm>
        </p:grpSpPr>
        <p:sp>
          <p:nvSpPr>
            <p:cNvPr id="720" name=""/>
            <p:cNvSpPr/>
            <p:nvPr/>
          </p:nvSpPr>
          <p:spPr>
            <a:xfrm flipH="1" flipV="1">
              <a:off x="5714640" y="4003560"/>
              <a:ext cx="206280" cy="511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flipV="1">
              <a:off x="5937120" y="4003560"/>
              <a:ext cx="162000" cy="43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5828760" y="4300560"/>
              <a:ext cx="294840" cy="14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a:off x="6021360" y="427356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H="1">
              <a:off x="5850000" y="435600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txBox="1"/>
          <p:nvPr/>
        </p:nvSpPr>
        <p:spPr>
          <a:xfrm>
            <a:off x="6881760" y="3983040"/>
            <a:ext cx="2127240" cy="19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0. Overlay</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ickness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f material</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cross mitr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26" name=""/>
          <p:cNvSpPr/>
          <p:nvPr/>
        </p:nvSpPr>
        <p:spPr>
          <a:xfrm rot="16200000">
            <a:off x="6604560" y="2149920"/>
            <a:ext cx="768600" cy="2522520"/>
          </a:xfrm>
          <a:custGeom>
            <a:avLst/>
            <a:gdLst>
              <a:gd name="textAreaLeft" fmla="*/ 261720 w 768600"/>
              <a:gd name="textAreaRight" fmla="*/ 587520 w 768600"/>
              <a:gd name="textAreaTop" fmla="*/ 1454040 h 2522520"/>
              <a:gd name="textAreaBottom" fmla="*/ 1928520 h 2522520"/>
            </a:gdLst>
            <a:ahLst/>
            <a:rect l="textAreaLeft" t="textAreaTop" r="textAreaRight" b="textAreaBottom"/>
            <a:pathLst>
              <a:path w="21600" h="21600">
                <a:moveTo>
                  <a:pt x="0" y="17539"/>
                </a:moveTo>
                <a:lnTo>
                  <a:pt x="12451" y="17539"/>
                </a:lnTo>
                <a:lnTo>
                  <a:pt x="12451" y="7354"/>
                </a:lnTo>
                <a:lnTo>
                  <a:pt x="7363" y="7354"/>
                </a:lnTo>
                <a:lnTo>
                  <a:pt x="14482" y="0"/>
                </a:lnTo>
                <a:lnTo>
                  <a:pt x="21600" y="7354"/>
                </a:lnTo>
                <a:lnTo>
                  <a:pt x="16512" y="7354"/>
                </a:lnTo>
                <a:lnTo>
                  <a:pt x="16512" y="21600"/>
                </a:lnTo>
                <a:lnTo>
                  <a:pt x="0" y="21600"/>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advTm="12000">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7"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67560" y="2362320"/>
            <a:ext cx="0" cy="402408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48160" y="380880"/>
            <a:ext cx="1319400" cy="1981440"/>
          </a:xfrm>
          <a:custGeom>
            <a:avLst/>
            <a:gdLst/>
            <a:ahLst/>
            <a:rect l="l" t="t" r="r" b="b"/>
            <a:pathLst>
              <a:path w="831" h="1248">
                <a:moveTo>
                  <a:pt x="0" y="0"/>
                </a:moveTo>
                <a:cubicBezTo>
                  <a:pt x="59" y="29"/>
                  <a:pt x="251" y="101"/>
                  <a:pt x="357" y="177"/>
                </a:cubicBezTo>
                <a:cubicBezTo>
                  <a:pt x="463" y="253"/>
                  <a:pt x="567" y="350"/>
                  <a:pt x="638" y="459"/>
                </a:cubicBezTo>
                <a:cubicBezTo>
                  <a:pt x="709" y="568"/>
                  <a:pt x="751" y="700"/>
                  <a:pt x="783" y="832"/>
                </a:cubicBezTo>
                <a:cubicBezTo>
                  <a:pt x="815" y="964"/>
                  <a:pt x="821" y="1161"/>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495680" y="2362320"/>
            <a:ext cx="31687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984480" y="2060640"/>
            <a:ext cx="36799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078520" y="380880"/>
            <a:ext cx="1449360" cy="1675080"/>
          </a:xfrm>
          <a:custGeom>
            <a:avLst/>
            <a:gdLst/>
            <a:ahLst/>
            <a:rect l="l" t="t" r="r" b="b"/>
            <a:pathLst>
              <a:path w="913" h="1055">
                <a:moveTo>
                  <a:pt x="0" y="0"/>
                </a:moveTo>
                <a:cubicBezTo>
                  <a:pt x="59" y="26"/>
                  <a:pt x="244" y="90"/>
                  <a:pt x="354" y="154"/>
                </a:cubicBezTo>
                <a:cubicBezTo>
                  <a:pt x="464" y="218"/>
                  <a:pt x="581" y="297"/>
                  <a:pt x="662" y="387"/>
                </a:cubicBezTo>
                <a:cubicBezTo>
                  <a:pt x="743" y="477"/>
                  <a:pt x="797" y="584"/>
                  <a:pt x="839" y="695"/>
                </a:cubicBezTo>
                <a:cubicBezTo>
                  <a:pt x="881" y="806"/>
                  <a:pt x="898" y="980"/>
                  <a:pt x="913" y="1055"/>
                </a:cubicBezTo>
              </a:path>
            </a:pathLst>
          </a:custGeom>
          <a:noFill/>
          <a:ln w="9360">
            <a:solidFill>
              <a:srgbClr val="0000ff"/>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4800600" y="144360"/>
            <a:ext cx="34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47" name=""/>
          <p:cNvSpPr/>
          <p:nvPr/>
        </p:nvSpPr>
        <p:spPr>
          <a:xfrm>
            <a:off x="6232680" y="1836720"/>
            <a:ext cx="301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48" name=""/>
          <p:cNvSpPr/>
          <p:nvPr/>
        </p:nvSpPr>
        <p:spPr>
          <a:xfrm>
            <a:off x="5176800" y="144360"/>
            <a:ext cx="379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49" name=""/>
          <p:cNvSpPr/>
          <p:nvPr/>
        </p:nvSpPr>
        <p:spPr>
          <a:xfrm flipH="1" flipV="1">
            <a:off x="6533640" y="206028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164120" y="2023920"/>
            <a:ext cx="199800" cy="333360"/>
          </a:xfrm>
          <a:custGeom>
            <a:avLst/>
            <a:gdLst/>
            <a:ahLst/>
            <a:rect l="l" t="t" r="r" b="b"/>
            <a:pathLst>
              <a:path w="126" h="210">
                <a:moveTo>
                  <a:pt x="0" y="210"/>
                </a:moveTo>
                <a:cubicBezTo>
                  <a:pt x="5" y="190"/>
                  <a:pt x="8" y="123"/>
                  <a:pt x="29" y="88"/>
                </a:cubicBezTo>
                <a:cubicBezTo>
                  <a:pt x="55" y="42"/>
                  <a:pt x="106" y="18"/>
                  <a:pt x="126" y="0"/>
                </a:cubicBezTo>
              </a:path>
            </a:pathLst>
          </a:custGeom>
          <a:noFill/>
          <a:ln w="9360">
            <a:solidFill>
              <a:srgbClr val="ccccff"/>
            </a:solidFill>
            <a:prstDash val="dash"/>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1" name=""/>
          <p:cNvSpPr/>
          <p:nvPr/>
        </p:nvSpPr>
        <p:spPr>
          <a:xfrm flipH="1" flipV="1">
            <a:off x="4320720" y="2055600"/>
            <a:ext cx="13356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917880" y="1836720"/>
            <a:ext cx="509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53" name=""/>
          <p:cNvSpPr/>
          <p:nvPr/>
        </p:nvSpPr>
        <p:spPr>
          <a:xfrm>
            <a:off x="6534000" y="2068560"/>
            <a:ext cx="0" cy="402444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444920" y="2357280"/>
            <a:ext cx="0" cy="402444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flipV="1">
            <a:off x="4311720" y="2055600"/>
            <a:ext cx="133200" cy="2998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4311720" y="2063880"/>
            <a:ext cx="0" cy="402408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5381640" y="2787480"/>
            <a:ext cx="16542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164200" y="3078000"/>
            <a:ext cx="14176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57640" y="3978360"/>
            <a:ext cx="20628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667560" y="2787480"/>
            <a:ext cx="0" cy="3865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532560" y="3079800"/>
            <a:ext cx="0" cy="33019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4311720" y="3981600"/>
            <a:ext cx="0" cy="18126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a:off x="5423040" y="3260520"/>
            <a:ext cx="288720" cy="7110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592600" y="3163320"/>
            <a:ext cx="328680" cy="81756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5151960" y="3211920"/>
            <a:ext cx="451440" cy="14803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5724360" y="4003560"/>
            <a:ext cx="206640" cy="511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5828760" y="4300560"/>
            <a:ext cx="294840" cy="14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6021360" y="427356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5850000" y="4356000"/>
            <a:ext cx="77760" cy="123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flipV="1">
            <a:off x="5932440" y="4003560"/>
            <a:ext cx="163440" cy="403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5511960" y="3206880"/>
            <a:ext cx="222120" cy="339480"/>
          </a:xfrm>
          <a:prstGeom prst="triangle">
            <a:avLst>
              <a:gd name="adj" fmla="val 45000"/>
            </a:avLst>
          </a:prstGeom>
          <a:gradFill rotWithShape="0">
            <a:gsLst>
              <a:gs pos="0">
                <a:srgbClr val="ff99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388200" y="2362320"/>
            <a:ext cx="7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77" name=""/>
          <p:cNvSpPr txBox="1"/>
          <p:nvPr/>
        </p:nvSpPr>
        <p:spPr>
          <a:xfrm>
            <a:off x="6916680" y="4005360"/>
            <a:ext cx="2173320" cy="21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1. Mark a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diagonal to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nd 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itre angl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78" name=""/>
          <p:cNvSpPr/>
          <p:nvPr/>
        </p:nvSpPr>
        <p:spPr>
          <a:xfrm flipH="1">
            <a:off x="4518000" y="3219480"/>
            <a:ext cx="3727440" cy="1149480"/>
          </a:xfrm>
          <a:custGeom>
            <a:avLst/>
            <a:gdLst>
              <a:gd name="textAreaLeft" fmla="*/ 360 w 3727440"/>
              <a:gd name="textAreaRight" fmla="*/ 3728160 w 3727440"/>
              <a:gd name="textAreaTop" fmla="*/ 0 h 1149480"/>
              <a:gd name="textAreaBottom" fmla="*/ 1149840 h 1149480"/>
            </a:gdLst>
            <a:ahLst/>
            <a:rect l="textAreaLeft" t="textAreaTop" r="textAreaRight" b="textAreaBottom"/>
            <a:pathLst>
              <a:path w="21600" h="21600">
                <a:moveTo>
                  <a:pt x="11065" y="18886"/>
                </a:moveTo>
                <a:arcTo wR="-8090" hR="-8090" stAng="5287375" swAng="-5287375"/>
                <a:lnTo>
                  <a:pt x="0" y="10800"/>
                </a:lnTo>
                <a:arcTo wR="10800" hR="10800" stAng="10800000" swAng="5287375"/>
                <a:lnTo>
                  <a:pt x="10358" y="-2693"/>
                </a:lnTo>
                <a:lnTo>
                  <a:pt x="14543" y="1227"/>
                </a:lnTo>
                <a:lnTo>
                  <a:pt x="10623" y="5413"/>
                </a:lnTo>
                <a:close/>
              </a:path>
            </a:pathLst>
          </a:cu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rot="4049400">
            <a:off x="5483520" y="5220720"/>
            <a:ext cx="1900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ue thickness of material</a:t>
            </a:r>
            <a:endParaRPr b="0" lang="en-US" sz="1000" spc="-1" strike="noStrike">
              <a:solidFill>
                <a:srgbClr val="000000"/>
              </a:solidFill>
              <a:latin typeface="Times New Roman"/>
            </a:endParaRPr>
          </a:p>
        </p:txBody>
      </p:sp>
    </p:spTree>
  </p:cSld>
  <p:transition spd="med" advTm="12000">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80" name=""/>
          <p:cNvSpPr txBox="1"/>
          <p:nvPr/>
        </p:nvSpPr>
        <p:spPr>
          <a:xfrm rot="4800">
            <a:off x="1074240" y="1766520"/>
            <a:ext cx="7099560" cy="275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EN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12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29" name=""/>
          <p:cNvGrpSpPr/>
          <p:nvPr/>
        </p:nvGrpSpPr>
        <p:grpSpPr>
          <a:xfrm>
            <a:off x="1752480" y="380880"/>
            <a:ext cx="3600720" cy="6005520"/>
            <a:chOff x="1752480" y="380880"/>
            <a:chExt cx="3600720" cy="6005520"/>
          </a:xfrm>
        </p:grpSpPr>
        <p:sp>
          <p:nvSpPr>
            <p:cNvPr id="130"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45"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72040" y="38088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1576440"/>
            <a:ext cx="1730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ay a side down to get a view of it from above</a:t>
            </a:r>
            <a:endParaRPr b="0" lang="en-US" sz="1200" spc="-1" strike="noStrike">
              <a:solidFill>
                <a:srgbClr val="000000"/>
              </a:solidFill>
              <a:latin typeface="Times New Roman"/>
            </a:endParaRPr>
          </a:p>
        </p:txBody>
      </p:sp>
      <p:sp>
        <p:nvSpPr>
          <p:cNvPr id="14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6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50" name=""/>
          <p:cNvGrpSpPr/>
          <p:nvPr/>
        </p:nvGrpSpPr>
        <p:grpSpPr>
          <a:xfrm>
            <a:off x="1752480" y="380880"/>
            <a:ext cx="3600720" cy="6005520"/>
            <a:chOff x="1752480" y="380880"/>
            <a:chExt cx="3600720" cy="6005520"/>
          </a:xfrm>
        </p:grpSpPr>
        <p:sp>
          <p:nvSpPr>
            <p:cNvPr id="15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6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rot="1287000">
            <a:off x="4533480" y="571320"/>
            <a:ext cx="1171800" cy="197928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348160" y="380880"/>
            <a:ext cx="1319400" cy="1981440"/>
          </a:xfrm>
          <a:custGeom>
            <a:avLst/>
            <a:gdLst/>
            <a:ahLst/>
            <a:rect l="l" t="t" r="r" b="b"/>
            <a:pathLst>
              <a:path w="831" h="1248">
                <a:moveTo>
                  <a:pt x="0" y="0"/>
                </a:moveTo>
                <a:cubicBezTo>
                  <a:pt x="55" y="30"/>
                  <a:pt x="235" y="103"/>
                  <a:pt x="332" y="182"/>
                </a:cubicBezTo>
                <a:cubicBezTo>
                  <a:pt x="429" y="261"/>
                  <a:pt x="514" y="366"/>
                  <a:pt x="583" y="473"/>
                </a:cubicBezTo>
                <a:cubicBezTo>
                  <a:pt x="652" y="580"/>
                  <a:pt x="708" y="697"/>
                  <a:pt x="749" y="826"/>
                </a:cubicBezTo>
                <a:cubicBezTo>
                  <a:pt x="790" y="955"/>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70" name=""/>
          <p:cNvGrpSpPr/>
          <p:nvPr/>
        </p:nvGrpSpPr>
        <p:grpSpPr>
          <a:xfrm>
            <a:off x="1752480" y="380880"/>
            <a:ext cx="3600720" cy="6005520"/>
            <a:chOff x="1752480" y="380880"/>
            <a:chExt cx="3600720" cy="6005520"/>
          </a:xfrm>
        </p:grpSpPr>
        <p:sp>
          <p:nvSpPr>
            <p:cNvPr id="17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18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2278800">
            <a:off x="4723920" y="790560"/>
            <a:ext cx="117180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190" name=""/>
          <p:cNvGrpSpPr/>
          <p:nvPr/>
        </p:nvGrpSpPr>
        <p:grpSpPr>
          <a:xfrm>
            <a:off x="1752480" y="380880"/>
            <a:ext cx="3600720" cy="6005520"/>
            <a:chOff x="1752480" y="380880"/>
            <a:chExt cx="3600720" cy="6005520"/>
          </a:xfrm>
        </p:grpSpPr>
        <p:sp>
          <p:nvSpPr>
            <p:cNvPr id="19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0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rot="3270600">
            <a:off x="4866120" y="106740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advTm="1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10" name=""/>
          <p:cNvGrpSpPr/>
          <p:nvPr/>
        </p:nvGrpSpPr>
        <p:grpSpPr>
          <a:xfrm>
            <a:off x="1752480" y="380880"/>
            <a:ext cx="3600720" cy="6005520"/>
            <a:chOff x="1752480" y="380880"/>
            <a:chExt cx="3600720" cy="6005520"/>
          </a:xfrm>
        </p:grpSpPr>
        <p:sp>
          <p:nvSpPr>
            <p:cNvPr id="21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2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3913800">
            <a:off x="4894560" y="125784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348160" y="380880"/>
            <a:ext cx="1319400" cy="1981440"/>
          </a:xfrm>
          <a:custGeom>
            <a:avLst/>
            <a:gdLst/>
            <a:ahLst/>
            <a:rect l="l" t="t" r="r" b="b"/>
            <a:pathLst>
              <a:path w="831" h="1248">
                <a:moveTo>
                  <a:pt x="0" y="0"/>
                </a:moveTo>
                <a:cubicBezTo>
                  <a:pt x="51" y="31"/>
                  <a:pt x="214" y="112"/>
                  <a:pt x="309" y="188"/>
                </a:cubicBezTo>
                <a:cubicBezTo>
                  <a:pt x="404" y="264"/>
                  <a:pt x="499" y="350"/>
                  <a:pt x="572" y="456"/>
                </a:cubicBezTo>
                <a:cubicBezTo>
                  <a:pt x="645" y="562"/>
                  <a:pt x="706" y="694"/>
                  <a:pt x="749" y="826"/>
                </a:cubicBezTo>
                <a:cubicBezTo>
                  <a:pt x="792" y="958"/>
                  <a:pt x="814" y="1160"/>
                  <a:pt x="831" y="1248"/>
                </a:cubicBezTo>
              </a:path>
            </a:pathLst>
          </a:custGeom>
          <a:noFill/>
          <a:ln w="9360">
            <a:solidFill>
              <a:srgbClr val="0000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txBox="1"/>
          <p:nvPr/>
        </p:nvSpPr>
        <p:spPr>
          <a:xfrm>
            <a:off x="5908680" y="3543480"/>
            <a:ext cx="2797200" cy="17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2. Lay down </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ide.</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advTm="5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30" name=""/>
          <p:cNvGrpSpPr/>
          <p:nvPr/>
        </p:nvGrpSpPr>
        <p:grpSpPr>
          <a:xfrm>
            <a:off x="1752480" y="380880"/>
            <a:ext cx="3600720" cy="6005520"/>
            <a:chOff x="1752480" y="380880"/>
            <a:chExt cx="3600720" cy="6005520"/>
          </a:xfrm>
        </p:grpSpPr>
        <p:sp>
          <p:nvSpPr>
            <p:cNvPr id="23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752480" y="2786760"/>
              <a:ext cx="3600720" cy="359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15908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084040" y="380880"/>
              <a:ext cx="90432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159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2480" y="2786760"/>
              <a:ext cx="119160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4159080" y="278208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44080" y="3978000"/>
              <a:ext cx="0" cy="12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44080" y="397800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44080" y="5193360"/>
              <a:ext cx="121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053440" y="3087720"/>
              <a:ext cx="3024720" cy="3023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157280" y="5193360"/>
              <a:ext cx="1191240" cy="119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1752480" y="5197320"/>
              <a:ext cx="118944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642760" y="3677040"/>
              <a:ext cx="180576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 name=""/>
          <p:cNvSpPr/>
          <p:nvPr/>
        </p:nvSpPr>
        <p:spPr>
          <a:xfrm>
            <a:off x="4660920" y="2484360"/>
            <a:ext cx="1609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PIVOT POINT</a:t>
            </a:r>
            <a:endParaRPr b="0" lang="en-US" sz="1400" spc="-1" strike="noStrike">
              <a:solidFill>
                <a:srgbClr val="000000"/>
              </a:solidFill>
              <a:latin typeface="Times New Roman"/>
            </a:endParaRPr>
          </a:p>
        </p:txBody>
      </p:sp>
      <p:sp>
        <p:nvSpPr>
          <p:cNvPr id="246" name=""/>
          <p:cNvSpPr/>
          <p:nvPr/>
        </p:nvSpPr>
        <p:spPr>
          <a:xfrm flipH="1" flipV="1">
            <a:off x="4467240" y="2388960"/>
            <a:ext cx="31356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3913800">
            <a:off x="4894560" y="1257840"/>
            <a:ext cx="1171440" cy="197964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03880" y="868320"/>
            <a:ext cx="363600" cy="987480"/>
          </a:xfrm>
          <a:prstGeom prst="downArrow">
            <a:avLst>
              <a:gd name="adj1" fmla="val 50000"/>
              <a:gd name="adj2" fmla="val 678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txBox="1"/>
          <p:nvPr/>
        </p:nvSpPr>
        <p:spPr>
          <a:xfrm>
            <a:off x="6959520" y="2782800"/>
            <a:ext cx="2000160" cy="32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Look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rom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bov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ge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hap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50" name=""/>
          <p:cNvSpPr/>
          <p:nvPr/>
        </p:nvSpPr>
        <p:spPr>
          <a:xfrm>
            <a:off x="6238800" y="380880"/>
            <a:ext cx="2720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Black"/>
              </a:rPr>
              <a:t>We look at it from above so we can project down and create a plan view or True Shape of the side</a:t>
            </a:r>
            <a:endParaRPr b="0" lang="en-US" sz="1800" spc="-1" strike="noStrike">
              <a:solidFill>
                <a:srgbClr val="000000"/>
              </a:solidFill>
              <a:latin typeface="Times New Roman"/>
            </a:endParaRPr>
          </a:p>
        </p:txBody>
      </p:sp>
    </p:spTree>
  </p:cSld>
  <p:transition advTm="5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1" name=""/>
          <p:cNvSpPr/>
          <p:nvPr/>
        </p:nvSpPr>
        <p:spPr>
          <a:xfrm>
            <a:off x="1752480" y="380880"/>
            <a:ext cx="3600720" cy="1979640"/>
          </a:xfrm>
          <a:custGeom>
            <a:avLst/>
            <a:gdLst>
              <a:gd name="textAreaLeft" fmla="*/ 791640 w 3600720"/>
              <a:gd name="textAreaRight" fmla="*/ 2809080 w 3600720"/>
              <a:gd name="textAreaTop" fmla="*/ 435240 h 1979640"/>
              <a:gd name="textAreaBottom" fmla="*/ 1544400 h 1979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752480" y="2787480"/>
            <a:ext cx="3600720" cy="35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415908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084400" y="380880"/>
            <a:ext cx="905040" cy="19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5908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752480" y="2787480"/>
            <a:ext cx="1192320" cy="11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a:off x="4158720" y="278280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944800" y="3978360"/>
            <a:ext cx="0" cy="12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944800" y="397836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44800" y="5192640"/>
            <a:ext cx="121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035080" y="3078000"/>
            <a:ext cx="3024360" cy="30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57640" y="5192640"/>
            <a:ext cx="1190520" cy="11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1752120" y="5197320"/>
            <a:ext cx="1189080" cy="11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643120" y="3676680"/>
            <a:ext cx="1805040" cy="1805040"/>
          </a:xfrm>
          <a:prstGeom prst="rect">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4311360" y="3078000"/>
            <a:ext cx="2222280" cy="9003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311720" y="3676680"/>
            <a:ext cx="142920" cy="30168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4454640" y="278748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321080" y="3981600"/>
            <a:ext cx="0" cy="12031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3913800">
            <a:off x="4921560" y="1240560"/>
            <a:ext cx="1171800" cy="2001960"/>
          </a:xfrm>
          <a:prstGeom prst="parallelogram">
            <a:avLst>
              <a:gd name="adj" fmla="val 77778"/>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667560" y="2360520"/>
            <a:ext cx="0" cy="4269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553080" y="2122560"/>
            <a:ext cx="0" cy="9554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54640" y="2349360"/>
            <a:ext cx="0" cy="13273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338720" y="2125800"/>
            <a:ext cx="0" cy="18460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311720" y="5184720"/>
            <a:ext cx="13320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444920" y="5475240"/>
            <a:ext cx="2222640" cy="9000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6533640" y="2787480"/>
            <a:ext cx="133560" cy="2905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667560" y="2787480"/>
            <a:ext cx="0" cy="358776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543720" y="3078000"/>
            <a:ext cx="0" cy="29959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flipV="1">
            <a:off x="6524280" y="6073560"/>
            <a:ext cx="142920" cy="30132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flipV="1">
            <a:off x="4311360" y="5184720"/>
            <a:ext cx="2212920" cy="889200"/>
          </a:xfrm>
          <a:prstGeom prst="line">
            <a:avLst/>
          </a:prstGeom>
          <a:ln w="9360">
            <a:solidFill>
              <a:srgbClr val="66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53120" y="3981600"/>
            <a:ext cx="129060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Tru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Shap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of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Black"/>
              </a:rPr>
              <a:t>Side</a:t>
            </a:r>
            <a:endParaRPr b="0" lang="en-US" sz="1800" spc="-1" strike="noStrike">
              <a:solidFill>
                <a:srgbClr val="000000"/>
              </a:solidFill>
              <a:latin typeface="Times New Roman"/>
            </a:endParaRPr>
          </a:p>
        </p:txBody>
      </p:sp>
      <p:sp>
        <p:nvSpPr>
          <p:cNvPr id="282" name=""/>
          <p:cNvSpPr txBox="1"/>
          <p:nvPr/>
        </p:nvSpPr>
        <p:spPr>
          <a:xfrm>
            <a:off x="6959520" y="2782800"/>
            <a:ext cx="2000160" cy="3291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3. Look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rom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bov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 ge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true </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hap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83" name=""/>
          <p:cNvSpPr/>
          <p:nvPr/>
        </p:nvSpPr>
        <p:spPr>
          <a:xfrm>
            <a:off x="5303880" y="868320"/>
            <a:ext cx="363600" cy="987480"/>
          </a:xfrm>
          <a:prstGeom prst="downArrow">
            <a:avLst>
              <a:gd name="adj1" fmla="val 50000"/>
              <a:gd name="adj2" fmla="val 678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38800" y="380880"/>
            <a:ext cx="27208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ff"/>
                </a:solidFill>
                <a:latin typeface="Arial Black"/>
              </a:rPr>
              <a:t>We look at it from above so we can project down and create a plan view or True Shape of the side</a:t>
            </a:r>
            <a:endParaRPr b="0" lang="en-US" sz="1800" spc="-1" strike="noStrike">
              <a:solidFill>
                <a:srgbClr val="000000"/>
              </a:solidFill>
              <a:latin typeface="Times New Roman"/>
            </a:endParaRPr>
          </a:p>
        </p:txBody>
      </p:sp>
    </p:spTree>
  </p:cSld>
  <p:transition spd="med" advTm="35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00:18:15Z</dcterms:created>
  <dc:creator>GREG CHEETHAM</dc:creator>
  <dc:description/>
  <dc:language>en-US</dc:language>
  <cp:lastModifiedBy>GREG CHEETHAM</cp:lastModifiedBy>
  <dcterms:modified xsi:type="dcterms:W3CDTF">2007-08-31T23:21:01Z</dcterms:modified>
  <cp:revision>10</cp:revision>
  <dc:subject/>
  <dc:title>PowerPoint Presentation</dc:title>
</cp:coreProperties>
</file>